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Clarendon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CG Times"/>
              </a:rPr>
              <a:t>Click to move the slide</a:t>
            </a:r>
            <a:endParaRPr b="1" lang="en-US" sz="6000" spc="-1" strike="noStrike">
              <a:solidFill>
                <a:srgbClr val="0066ff"/>
              </a:solidFill>
              <a:latin typeface="CG Time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Clarendon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Clarendon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7C69775-6656-411D-BE11-1F05B9F280F6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5B17741-0054-43F8-BA33-845AF9ECF557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7A7BCD-6DC6-4E43-9D0A-2FC690965247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852560" y="380880"/>
            <a:ext cx="3252960" cy="2440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03668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these procedures fairly quickly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an exercise to lear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ant them to be able to understand the form and what it s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APPROPRIATE FOR THE 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trust a NYT times article from a personal page as much as one from nytimes.c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py of Jackie Onassis’s will from a personal page as much as one from the California Bar Assn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personal page would be: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aol.com/~j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loosely paralleled by the sequence of the form in the next exer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C03437B-3C8A-4C62-AA9C-42A7856C1EAF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2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A15C3A0-66BF-45C7-B58E-73521C063E78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trust the lii.org more than many referrals.  If there are annotations by professionals, that hel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den is on you, al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link: search example in Goo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http://www.hanksville.org/yucatan/mayaca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D35D7B6-7AA3-4907-B2F3-5A5B09FB1EC6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trust the lii.org more than many referrals.  If there are annotations by professionals, that hel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den is on you, al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link: search example in Goo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http://www.hanksville.org/yucatan/mayaca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47B706E-215F-41F5-B1D6-8A767A980824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2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984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216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752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984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216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543600"/>
            <a:ext cx="8001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3984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216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1752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3984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216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543600"/>
            <a:ext cx="8001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5400000">
            <a:off x="7980480" y="386640"/>
            <a:ext cx="136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larendon Condensed"/>
              </a:rPr>
              <a:t>to the</a:t>
            </a:r>
            <a:r>
              <a:rPr b="0" lang="en-US" sz="4800" spc="-1" strike="noStrike">
                <a:solidFill>
                  <a:srgbClr val="ffcc00"/>
                </a:solidFill>
                <a:latin typeface="Clarendon Condensed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 txBox="1"/>
          <p:nvPr/>
        </p:nvSpPr>
        <p:spPr>
          <a:xfrm rot="4980000">
            <a:off x="8121240" y="1771560"/>
            <a:ext cx="1152720" cy="4255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FadeLeft">
              <a:avLst>
                <a:gd name="adj" fmla="val 21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latin typeface="Garamond"/>
              </a:rPr>
              <a:t>MAX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sp>
        <p:nvSpPr>
          <p:cNvPr id="4" name=""/>
          <p:cNvSpPr/>
          <p:nvPr/>
        </p:nvSpPr>
        <p:spPr>
          <a:xfrm>
            <a:off x="6617520" y="-51120"/>
            <a:ext cx="213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4000" spc="-1" strike="noStrike">
                <a:solidFill>
                  <a:srgbClr val="ff3300"/>
                </a:solidFill>
                <a:latin typeface="Georgia"/>
              </a:rPr>
              <a:t>o</a:t>
            </a:r>
            <a:r>
              <a:rPr b="1" lang="en-US" sz="4000" spc="-1" strike="noStrike">
                <a:solidFill>
                  <a:srgbClr val="eee800"/>
                </a:solidFill>
                <a:latin typeface="Georgia"/>
              </a:rPr>
              <a:t>o</a:t>
            </a:r>
            <a:r>
              <a:rPr b="1" lang="en-US" sz="4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4000" spc="-1" strike="noStrike">
                <a:solidFill>
                  <a:srgbClr val="00d600"/>
                </a:solidFill>
                <a:latin typeface="Georgia"/>
              </a:rPr>
              <a:t>l</a:t>
            </a:r>
            <a:r>
              <a:rPr b="1" lang="en-US" sz="2400" spc="-1" strike="noStrike">
                <a:solidFill>
                  <a:srgbClr val="ff3300"/>
                </a:solidFill>
                <a:latin typeface="Georgia"/>
              </a:rPr>
              <a:t>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78320" y="2184840"/>
            <a:ext cx="193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larendon Condensed"/>
              </a:rPr>
              <a:t>to the</a:t>
            </a:r>
            <a:r>
              <a:rPr b="0" lang="en-US" sz="4800" spc="-1" strike="noStrike">
                <a:solidFill>
                  <a:srgbClr val="ffcc00"/>
                </a:solidFill>
                <a:latin typeface="Clarendon Condensed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 rot="21180000">
            <a:off x="5384520" y="1848960"/>
            <a:ext cx="2616120" cy="10922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FadeLeft">
              <a:avLst>
                <a:gd name="adj" fmla="val 32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MAX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43" name=""/>
          <p:cNvSpPr/>
          <p:nvPr/>
        </p:nvSpPr>
        <p:spPr>
          <a:xfrm>
            <a:off x="747720" y="1027080"/>
            <a:ext cx="421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8000" spc="-1" strike="noStrike">
                <a:solidFill>
                  <a:srgbClr val="ff3300"/>
                </a:solidFill>
                <a:latin typeface="Georgia"/>
              </a:rPr>
              <a:t>o</a:t>
            </a:r>
            <a:r>
              <a:rPr b="1" lang="en-US" sz="8000" spc="-1" strike="noStrike">
                <a:solidFill>
                  <a:srgbClr val="eee800"/>
                </a:solidFill>
                <a:latin typeface="Georgia"/>
              </a:rPr>
              <a:t>o</a:t>
            </a:r>
            <a:r>
              <a:rPr b="1" lang="en-US" sz="8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8000" spc="-1" strike="noStrike">
                <a:solidFill>
                  <a:srgbClr val="00d600"/>
                </a:solidFill>
                <a:latin typeface="Georgia"/>
              </a:rPr>
              <a:t>l</a:t>
            </a:r>
            <a:r>
              <a:rPr b="1" lang="en-US" sz="5400" spc="-1" strike="noStrike">
                <a:solidFill>
                  <a:srgbClr val="ff3300"/>
                </a:solidFill>
                <a:latin typeface="Georgia"/>
              </a:rPr>
              <a:t>ing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CG Times"/>
              </a:rPr>
              <a:t>Click to edit the title text format</a:t>
            </a:r>
            <a:endParaRPr b="1" lang="en-US" sz="6000" spc="-1" strike="noStrike">
              <a:solidFill>
                <a:srgbClr val="0066ff"/>
              </a:solidFill>
              <a:latin typeface="CG Time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b.berkeley.edu/find/types/websites.html" TargetMode="External"/><Relationship Id="rId3" Type="http://schemas.openxmlformats.org/officeDocument/2006/relationships/hyperlink" Target="http://www.lib.berkeley.edu/find/types/websites.html" TargetMode="External"/><Relationship Id="rId4" Type="http://schemas.openxmlformats.org/officeDocument/2006/relationships/hyperlink" Target="http://www.lib.berkeley.edu/TeachingLib/Guides/Internet/FindInfo.html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dhmo.org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alexa.com/" TargetMode="External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blogsearch.google.com/" TargetMode="External"/><Relationship Id="rId3" Type="http://schemas.openxmlformats.org/officeDocument/2006/relationships/hyperlink" Target="http://blogsearch.google.com/" TargetMode="External"/><Relationship Id="rId4" Type="http://schemas.openxmlformats.org/officeDocument/2006/relationships/hyperlink" Target="http://blogsearch.google.com/" TargetMode="External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ohn Kupersmi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jkupersm [at] library.berkeley.edu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499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“Know Your Library” Worksho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eaching Library, University of California, Berkeley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pring 2009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3960" y="759600"/>
            <a:ext cx="50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G Times"/>
              </a:rPr>
              <a:t>Research-quality Web Search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501120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Unicode MS"/>
              </a:rPr>
              <a:t>COURSE PAGES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www.lib.berkeley.edu/find/types/websites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http://www.lib.berkeley.edu/TeachingLib/Guides/Internet/FindInfo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293120"/>
            <a:ext cx="775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Baskerville Semibold"/>
              </a:rPr>
              <a:t>G</a:t>
            </a:r>
            <a:r>
              <a:rPr b="0" lang="en-US" sz="7200" spc="-1" strike="noStrike">
                <a:solidFill>
                  <a:srgbClr val="ff3300"/>
                </a:solidFill>
                <a:latin typeface="Baskerville Semibold"/>
              </a:rPr>
              <a:t>o</a:t>
            </a:r>
            <a:r>
              <a:rPr b="0" lang="en-US" sz="7200" spc="-1" strike="noStrike">
                <a:solidFill>
                  <a:srgbClr val="ffcc00"/>
                </a:solidFill>
                <a:latin typeface="Baskerville Semibold"/>
              </a:rPr>
              <a:t>o</a:t>
            </a:r>
            <a:r>
              <a:rPr b="0" lang="en-US" sz="7200" spc="-1" strike="noStrike">
                <a:solidFill>
                  <a:srgbClr val="0066ff"/>
                </a:solidFill>
                <a:latin typeface="Baskerville Semibold"/>
              </a:rPr>
              <a:t>g</a:t>
            </a:r>
            <a:r>
              <a:rPr b="0" lang="en-US" sz="7200" spc="-1" strike="noStrike">
                <a:solidFill>
                  <a:srgbClr val="3cb43c"/>
                </a:solidFill>
                <a:latin typeface="Baskerville Semibold"/>
              </a:rPr>
              <a:t>l</a:t>
            </a:r>
            <a:r>
              <a:rPr b="0" lang="en-US" sz="7200" spc="-1" strike="noStrike">
                <a:solidFill>
                  <a:srgbClr val="ff3300"/>
                </a:solidFill>
                <a:latin typeface="Baskerville Semibold"/>
              </a:rPr>
              <a:t>e</a:t>
            </a: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 and Beyon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t’s visit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Dihydrogen Monoxide Research Division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RITICAL EVALUATION</a:t>
            </a:r>
            <a:br>
              <a:rPr sz="40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y Evaluate What You Find on the Web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yone can put up a web p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ny pages not updat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quality contro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sites not “peer-reviewed”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ss trustworthy than scholarly publica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efore you click to view the page..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ook at th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RL 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ersonal page or site ?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d600"/>
                </a:solidFill>
                <a:latin typeface="Arial"/>
              </a:rPr>
              <a:t>~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or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d6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or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d600"/>
                </a:solidFill>
                <a:latin typeface="Arial"/>
              </a:rPr>
              <a:t>use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or  </a:t>
            </a:r>
            <a:r>
              <a:rPr b="1" lang="en-US" sz="1800" spc="-1" strike="noStrike">
                <a:solidFill>
                  <a:srgbClr val="00d600"/>
                </a:solidFill>
                <a:latin typeface="Arial"/>
              </a:rPr>
              <a:t>memb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main name appropriate for the content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stricted:   </a:t>
            </a:r>
            <a:r>
              <a:rPr b="0" lang="en-US" sz="1600" spc="-1" strike="noStrike">
                <a:solidFill>
                  <a:srgbClr val="00d600"/>
                </a:solidFill>
                <a:latin typeface="Arial"/>
              </a:rPr>
              <a:t>edu,  gov,  mil,  a few country codes (ca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restricted:</a:t>
            </a:r>
            <a:r>
              <a:rPr b="0" lang="en-US" sz="16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d600"/>
                </a:solidFill>
                <a:latin typeface="Arial"/>
              </a:rPr>
              <a:t>com,  org,  net,  most country codes (us, uk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ublished by an entity that makes sense 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ews from its source?  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4" marL="228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www.</a:t>
            </a:r>
            <a:r>
              <a:rPr b="1" lang="en-US" sz="1600" spc="-1" strike="noStrike">
                <a:solidFill>
                  <a:srgbClr val="eee800"/>
                </a:solidFill>
                <a:latin typeface="Arial"/>
              </a:rPr>
              <a:t>nytimes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.com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dvice from valid agency?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4" marL="228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www.</a:t>
            </a:r>
            <a:r>
              <a:rPr b="1" lang="en-US" sz="1600" spc="-1" strike="noStrike">
                <a:solidFill>
                  <a:srgbClr val="eee800"/>
                </a:solidFill>
                <a:latin typeface="Arial"/>
              </a:rPr>
              <a:t>nih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.gov/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4" marL="228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www.nimh.</a:t>
            </a:r>
            <a:r>
              <a:rPr b="1" lang="en-US" sz="1600" spc="-1" strike="noStrike">
                <a:solidFill>
                  <a:srgbClr val="eee800"/>
                </a:solidFill>
                <a:latin typeface="Arial"/>
              </a:rPr>
              <a:t>nih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.gov/</a:t>
            </a: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72684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can the perimeter of the pag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356840"/>
            <a:ext cx="815364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Can you tell who wrote it ?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ame of page autho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organization, institution, agency you recognize</a:t>
            </a:r>
            <a:br>
              <a:rPr sz="1800"/>
            </a:br>
            <a:br>
              <a:rPr sz="1900"/>
            </a:br>
            <a:r>
              <a:rPr b="0" lang="en-US" sz="1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Credentials for the subject matter ?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ook for links to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33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99ff33"/>
                </a:solidFill>
                <a:latin typeface="Arial"/>
              </a:rPr>
              <a:t>About us”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“Philosophy”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“Background”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“Biography”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Is it current enough ?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Arial"/>
              </a:rPr>
              <a:t>Look for “last updated” date</a:t>
            </a:r>
            <a:endParaRPr b="0" lang="en-US" sz="19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7428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amine the cont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54380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ossibly forged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y not a link to published version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ur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cumented with links or notes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 the links work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idence of b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 text or sources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591480"/>
            <a:ext cx="7620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o some detective wor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752480"/>
            <a:ext cx="8191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arch the URL in 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alexa.co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lick on “Site info for … ”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o owns the domain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o links to the site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at did the site look like in the past? 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(Wayback Machin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95360" y="1752480"/>
            <a:ext cx="8191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ich blogs link to it?  What do they say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y the URL in 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Google 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Blog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 Search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 what links are in Google’s “Similar pages”</a:t>
            </a:r>
            <a:br>
              <a:rPr sz="2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ook up the page author in Goog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53136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oes it all add up 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s the page put on the web to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form ? 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ersuade ? 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ll ?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s a parody or satire 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 it appropriate for your purpos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482760"/>
            <a:ext cx="8001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Try evaluating some sites...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arch a controversial topic in Goog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uclear armagedd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rions dang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stem cells” abor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can the first two pages of resul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isit one or two site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aluate their quality and reliabili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23:03:14Z</dcterms:created>
  <dc:creator>Library Systems Office</dc:creator>
  <dc:description/>
  <dc:language>en-US</dc:language>
  <cp:lastModifiedBy>Lakeview</cp:lastModifiedBy>
  <cp:lastPrinted>2008-01-28T21:25:23Z</cp:lastPrinted>
  <dcterms:modified xsi:type="dcterms:W3CDTF">2009-07-16T20:28:40Z</dcterms:modified>
  <cp:revision>118</cp:revision>
  <dc:subject/>
  <dc:title>PowerPoint Presentation</dc:title>
</cp:coreProperties>
</file>